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CBA5-86FC-4524-9CAF-3015C12AD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2C49-7489-4A88-9CCD-DA71911D55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7479-4590-40D8-93DD-7A4B281781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17D9-132E-40F6-A45F-57A1CDC5B2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5D7-166A-4F31-B8C9-EFFFE90019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2741-2B72-4A83-A681-9F2D840787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3A39-63B6-49C5-BD5F-E14CEBA182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694C-E031-4DA2-9580-915E49CFAA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4BB0-7F8C-4DC7-817B-CCD7F5C536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5F04-7C62-48EE-8364-26B3582D77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EF5C-3357-4479-9845-1AFEF690D5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680-6440-47A8-A0B5-1506425408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A5CE-0E14-407D-BB74-61366EED0B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847B-8286-4234-8143-F007FB1E2B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1864-1D94-45BD-82E7-4742B16D96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B48B-A747-4D63-AE07-F3893A7388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B0BA-6F87-4844-9EC4-FC43E6D897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ECA6-EE61-4B88-AE05-FD75F3C78A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B6A8-AA19-4F0A-8127-83EF9D2EC6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88D2-2BE1-4B25-BAC8-6C9C69EC30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0E0-5921-4367-AAE4-28E19E4380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29A-CD98-4042-881C-68F367EBBA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513F-77B9-4840-A7A6-1321FCCDD2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DBC-FC21-46CE-B1D6-751CAAA44B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75FA-73AC-429D-B6FE-05C0791FA1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E0C-4BED-48FB-BAF0-6D4F35A218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6321-4601-4654-90EB-117BDF1F47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E49B-097B-48C5-989A-78D7516D06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88D1-DEC4-4A1E-B7BC-F048B7461D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756E-C72F-42D0-B862-763D6B2C08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21F1-F15F-431A-9556-8E85672FA4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8C8-8E2A-4EED-93A9-22B006B163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5133-89F7-497C-86F2-0F9C8C82C2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CACE-C871-4B78-819B-799C119C27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432B-A426-429E-9D1C-E0516AA9A3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E591-33A4-4D40-AEE8-A41AA7DFB0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A86E-708B-4CD3-8C10-64B5ECF280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1B19-D59B-4ADC-9638-E081F521D2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B3DF-1FFC-4D88-8900-C2E39458A0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A741-B116-41AC-BFFE-03547F0A35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564E-FA07-4E78-B489-EDE8734DE3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65A5-BD88-46F2-A618-40BA67306B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98B5-93C9-4798-8866-D6A5EE5495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2499-0187-4DD7-BA8F-74C4CDCBE7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095F-2138-40FA-8ED6-B0A61B83CF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259C-7BD1-4BE0-A6B2-0E8F76E81B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71A-AD98-4AF8-B9B5-CBC90B7A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998-0834-4F94-A990-EB8DE855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DD5-B7B0-4DD5-99FE-A88F5EBE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07D-0CAF-4812-A137-438BFED8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597-AA05-4526-B6A9-D61F997C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7C8-F1B3-4F57-AD73-EB4F1BBE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EF04-AE61-4FA3-8690-0A1976EF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139-CCAC-4A3B-8871-8161CD4A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851F-27F0-4A20-8CB4-E638068A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1E9D-EE6F-4E78-AC91-004D332C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127E-39A8-4F28-A6AA-B22BCDEB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BB4-1DF6-489F-B5CD-8F0DC0BA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66D8-F996-479D-9722-C0447F54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63DB-E401-420B-AF88-1362E0F5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6A7D-E311-4B66-A79F-D6DB65AC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E7FE-E24F-479A-90D9-9765069C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1A65-3948-41B2-9D4D-0AC4FFBD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FF5-32BC-4390-B907-39D8CAEA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E4B-14D5-4EAF-8CCF-3678E83A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250-4191-4C1F-9E76-75771A94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3CF-5DEA-43EE-8990-E6326928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4AF-230C-4940-B9B5-9F3DDD9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480-7111-4E72-B74F-46A9EBE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F0A-0875-4901-A3D1-0BF9197A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1195-8B8E-40F3-8E1C-D4538F23C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9100-88E7-40B7-94E9-85FF60D93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hapter 24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rom Nixon to Carter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manda Sawyer, Danielle Floyd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ia Franco &amp; Jacob Gar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3$T10NZ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the FAP stand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Southern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the FAP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étente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Nix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U.S. security advisor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issin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elieved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s should pursue policies and make alliances based on national interests, not on views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and Kissinger cre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tente based on balance of power among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air rel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communist powers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a and Soviet Un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6920" y="106668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Kiss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nixon"/>
          <p:cNvPicPr/>
          <p:nvPr/>
        </p:nvPicPr>
        <p:blipFill>
          <a:blip r:embed="rId1"/>
          <a:stretch/>
        </p:blipFill>
        <p:spPr>
          <a:xfrm>
            <a:off x="380880" y="1905120"/>
            <a:ext cx="398016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nwo-kissinger"/>
          <p:cNvPicPr/>
          <p:nvPr/>
        </p:nvPicPr>
        <p:blipFill>
          <a:blip r:embed="rId2"/>
          <a:stretch/>
        </p:blipFill>
        <p:spPr>
          <a:xfrm>
            <a:off x="4876920" y="1905120"/>
            <a:ext cx="338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 of Ch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ant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t China and Soviet U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rd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essure Soviet Union to make negotiations on limiting nuclear 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pril 1971, U.S. ended trade embargo with Ch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ebruary 1972, Nixon went to China and agreed to resume tr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sig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Arms Limitation T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reement with Soviet Un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the number of missile defense systems in each count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ould be one in the capital city and one in the main missile launching ce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id not limit long-range missiles or bombs with multiple independently targeted warheads, did not prohibit development of nuclear weap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m Kippur W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ypt and Syria attacked Israel to get back land the lost in the 1967 six day w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ume peace making role, Nixon and Kissinger withheld and granted supplies to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test aid to Israel, Arab oil producing countries stopped shipments to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fixed relations with Arabs and made new cease fire deal October 26, 1973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sting Pe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 and Israel signed a peace agreement September 197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 recognized Israel, and Israel gave up part of Sinai peninsul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promised military aid to both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and Kissinger encouraged Soviet Union to arm radical Arab f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 Given Back to Egyp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4" descr="slide4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tin Ame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orlds economy grew, Latin America prosper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 U.S. had $35 billion invested in Latin American Industri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in America borrowed money from U.S. banks in order to finance their economic grow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oil prices went up, they grew deeper in deb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.S.-Latin America Rel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o welcomed American investments and wanted to be able to keep crossing the border for job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want to make trade agreements with the U.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tried to create their own industries so they could separate from Americas hold on their econom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merican Divis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the 1960’s American socie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d into hostile c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cad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 &amp; social change ripped the nation a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s vs. Lib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ers vs.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s vs. bl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d vs. yo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lende in Pow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dor Allende ran for presidency of Chile in 197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and Kissinger feared with Allende as president Chile would ally with Soviet Union and Cuba, and communism would sp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llende could become presid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had him assassinated in 197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dor Allen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salvador%20allende%20color"/>
          <p:cNvPicPr/>
          <p:nvPr/>
        </p:nvPicPr>
        <p:blipFill>
          <a:blip r:embed="rId1"/>
          <a:stretch/>
        </p:blipFill>
        <p:spPr>
          <a:xfrm>
            <a:off x="380880" y="762120"/>
            <a:ext cx="4254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97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won the re-el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rumored that he had played dirty tricks, but it was never prov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Détente poli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Mexico depend on us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wo countries signed a peace trea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t Nix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Nixon first took office in 19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d self with trusted and loyal aides such as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.R. Halde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sed his powers in many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unded funds for federal programs he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ing troops to invade Cambodia without congressional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ixon White Ho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protected self from critic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up enemies list, asking FBI to spy on oppossers/discredi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ton Plan, plan to infiltrate antiwar groups by tapping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EP (Committee to Re-Elect the President) for operations to sabotage 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mbers”, stop security leaks from th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641840" cy="624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3228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ergate Cri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17, 1972 a team of “plumbers” broke into Democratic National Committee headquarters, authorized by CREEP aide G. Gordon Lid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tap phones and copy document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tabs on Democratic strateg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 House denied affil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ut in trial James McCord alleged their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335040" cy="3810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43240" cy="2733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3733920" cy="2762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28600" y="6095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ch the Waterg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4"/>
          <a:stretch/>
        </p:blipFill>
        <p:spPr>
          <a:xfrm>
            <a:off x="4800600" y="152280"/>
            <a:ext cx="40384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Tap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Senate Hearings of the Watergate break-i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House aide Alexander Butterfield told Senate Nixon had installed tape recording system in White House since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refused Senate’s call for him to surrender the tapes, later released edited 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ly appointed Leon Jaworski called on Supreme Court, then unanimously ruled for Nixon to release tapes July 24, 19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ervative Backlas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la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Sudden reaction against liberalism of the 196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cl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king America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nted paying tax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ederal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this because they believed t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ted only the po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or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MARTPenAnnotation4"/>
          <p:cNvSpPr/>
          <p:nvPr/>
        </p:nvSpPr>
        <p:spPr>
          <a:xfrm>
            <a:off x="1371600" y="2743200"/>
            <a:ext cx="1433520" cy="1620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903" h="102">
                <a:moveTo>
                  <a:pt x="0" y="6"/>
                </a:moveTo>
                <a:lnTo>
                  <a:pt x="8" y="6"/>
                </a:lnTo>
                <a:lnTo>
                  <a:pt x="16" y="9"/>
                </a:lnTo>
                <a:lnTo>
                  <a:pt x="23" y="10"/>
                </a:lnTo>
                <a:lnTo>
                  <a:pt x="47" y="11"/>
                </a:lnTo>
                <a:lnTo>
                  <a:pt x="534" y="11"/>
                </a:lnTo>
                <a:lnTo>
                  <a:pt x="544" y="10"/>
                </a:lnTo>
                <a:lnTo>
                  <a:pt x="553" y="7"/>
                </a:lnTo>
                <a:lnTo>
                  <a:pt x="579" y="6"/>
                </a:lnTo>
                <a:lnTo>
                  <a:pt x="609" y="6"/>
                </a:lnTo>
                <a:lnTo>
                  <a:pt x="890" y="6"/>
                </a:lnTo>
                <a:lnTo>
                  <a:pt x="892" y="6"/>
                </a:lnTo>
                <a:lnTo>
                  <a:pt x="892" y="7"/>
                </a:lnTo>
                <a:lnTo>
                  <a:pt x="893" y="9"/>
                </a:lnTo>
                <a:lnTo>
                  <a:pt x="894" y="9"/>
                </a:lnTo>
                <a:lnTo>
                  <a:pt x="895" y="10"/>
                </a:lnTo>
                <a:lnTo>
                  <a:pt x="898" y="11"/>
                </a:lnTo>
                <a:lnTo>
                  <a:pt x="902" y="11"/>
                </a:lnTo>
                <a:lnTo>
                  <a:pt x="894" y="11"/>
                </a:lnTo>
                <a:lnTo>
                  <a:pt x="892" y="12"/>
                </a:lnTo>
                <a:lnTo>
                  <a:pt x="887" y="14"/>
                </a:lnTo>
                <a:lnTo>
                  <a:pt x="883" y="16"/>
                </a:lnTo>
                <a:lnTo>
                  <a:pt x="879" y="17"/>
                </a:lnTo>
                <a:lnTo>
                  <a:pt x="872" y="20"/>
                </a:lnTo>
                <a:lnTo>
                  <a:pt x="866" y="23"/>
                </a:lnTo>
                <a:lnTo>
                  <a:pt x="859" y="26"/>
                </a:lnTo>
                <a:lnTo>
                  <a:pt x="851" y="28"/>
                </a:lnTo>
                <a:lnTo>
                  <a:pt x="845" y="31"/>
                </a:lnTo>
                <a:lnTo>
                  <a:pt x="838" y="32"/>
                </a:lnTo>
                <a:lnTo>
                  <a:pt x="810" y="34"/>
                </a:lnTo>
                <a:lnTo>
                  <a:pt x="717" y="34"/>
                </a:lnTo>
                <a:lnTo>
                  <a:pt x="693" y="32"/>
                </a:lnTo>
                <a:lnTo>
                  <a:pt x="679" y="31"/>
                </a:lnTo>
                <a:lnTo>
                  <a:pt x="664" y="29"/>
                </a:lnTo>
                <a:lnTo>
                  <a:pt x="613" y="20"/>
                </a:lnTo>
                <a:lnTo>
                  <a:pt x="579" y="16"/>
                </a:lnTo>
                <a:lnTo>
                  <a:pt x="562" y="14"/>
                </a:lnTo>
                <a:lnTo>
                  <a:pt x="545" y="13"/>
                </a:lnTo>
                <a:lnTo>
                  <a:pt x="529" y="13"/>
                </a:lnTo>
                <a:lnTo>
                  <a:pt x="512" y="11"/>
                </a:lnTo>
                <a:lnTo>
                  <a:pt x="496" y="9"/>
                </a:lnTo>
                <a:lnTo>
                  <a:pt x="481" y="6"/>
                </a:lnTo>
                <a:lnTo>
                  <a:pt x="455" y="3"/>
                </a:lnTo>
                <a:lnTo>
                  <a:pt x="433" y="1"/>
                </a:lnTo>
                <a:lnTo>
                  <a:pt x="413" y="0"/>
                </a:lnTo>
                <a:lnTo>
                  <a:pt x="373" y="0"/>
                </a:lnTo>
                <a:lnTo>
                  <a:pt x="290" y="0"/>
                </a:lnTo>
                <a:lnTo>
                  <a:pt x="295" y="0"/>
                </a:lnTo>
                <a:lnTo>
                  <a:pt x="306" y="3"/>
                </a:lnTo>
                <a:lnTo>
                  <a:pt x="321" y="8"/>
                </a:lnTo>
                <a:lnTo>
                  <a:pt x="328" y="10"/>
                </a:lnTo>
                <a:lnTo>
                  <a:pt x="343" y="13"/>
                </a:lnTo>
                <a:lnTo>
                  <a:pt x="353" y="15"/>
                </a:lnTo>
                <a:lnTo>
                  <a:pt x="376" y="19"/>
                </a:lnTo>
                <a:lnTo>
                  <a:pt x="389" y="22"/>
                </a:lnTo>
                <a:lnTo>
                  <a:pt x="404" y="26"/>
                </a:lnTo>
                <a:lnTo>
                  <a:pt x="419" y="30"/>
                </a:lnTo>
                <a:lnTo>
                  <a:pt x="434" y="35"/>
                </a:lnTo>
                <a:lnTo>
                  <a:pt x="465" y="46"/>
                </a:lnTo>
                <a:lnTo>
                  <a:pt x="481" y="50"/>
                </a:lnTo>
                <a:lnTo>
                  <a:pt x="500" y="55"/>
                </a:lnTo>
                <a:lnTo>
                  <a:pt x="519" y="59"/>
                </a:lnTo>
                <a:lnTo>
                  <a:pt x="539" y="63"/>
                </a:lnTo>
                <a:lnTo>
                  <a:pt x="560" y="65"/>
                </a:lnTo>
                <a:lnTo>
                  <a:pt x="581" y="68"/>
                </a:lnTo>
                <a:lnTo>
                  <a:pt x="623" y="74"/>
                </a:lnTo>
                <a:lnTo>
                  <a:pt x="644" y="78"/>
                </a:lnTo>
                <a:lnTo>
                  <a:pt x="663" y="80"/>
                </a:lnTo>
                <a:lnTo>
                  <a:pt x="681" y="81"/>
                </a:lnTo>
                <a:lnTo>
                  <a:pt x="698" y="82"/>
                </a:lnTo>
                <a:lnTo>
                  <a:pt x="729" y="83"/>
                </a:lnTo>
                <a:lnTo>
                  <a:pt x="789" y="84"/>
                </a:lnTo>
                <a:lnTo>
                  <a:pt x="817" y="84"/>
                </a:lnTo>
                <a:lnTo>
                  <a:pt x="819" y="85"/>
                </a:lnTo>
                <a:lnTo>
                  <a:pt x="823" y="87"/>
                </a:lnTo>
                <a:lnTo>
                  <a:pt x="827" y="89"/>
                </a:lnTo>
                <a:lnTo>
                  <a:pt x="834" y="90"/>
                </a:lnTo>
                <a:lnTo>
                  <a:pt x="851" y="90"/>
                </a:lnTo>
                <a:lnTo>
                  <a:pt x="851" y="91"/>
                </a:lnTo>
                <a:lnTo>
                  <a:pt x="848" y="93"/>
                </a:lnTo>
                <a:lnTo>
                  <a:pt x="842" y="94"/>
                </a:lnTo>
                <a:lnTo>
                  <a:pt x="830" y="97"/>
                </a:lnTo>
                <a:lnTo>
                  <a:pt x="820" y="99"/>
                </a:lnTo>
                <a:lnTo>
                  <a:pt x="793" y="101"/>
                </a:lnTo>
                <a:lnTo>
                  <a:pt x="751" y="101"/>
                </a:lnTo>
                <a:lnTo>
                  <a:pt x="733" y="100"/>
                </a:lnTo>
                <a:lnTo>
                  <a:pt x="723" y="98"/>
                </a:lnTo>
                <a:lnTo>
                  <a:pt x="713" y="96"/>
                </a:lnTo>
                <a:lnTo>
                  <a:pt x="702" y="93"/>
                </a:lnTo>
                <a:lnTo>
                  <a:pt x="691" y="90"/>
                </a:lnTo>
                <a:lnTo>
                  <a:pt x="679" y="88"/>
                </a:lnTo>
                <a:lnTo>
                  <a:pt x="667" y="85"/>
                </a:lnTo>
                <a:lnTo>
                  <a:pt x="655" y="83"/>
                </a:lnTo>
                <a:lnTo>
                  <a:pt x="641" y="80"/>
                </a:lnTo>
                <a:lnTo>
                  <a:pt x="613" y="74"/>
                </a:lnTo>
                <a:lnTo>
                  <a:pt x="600" y="70"/>
                </a:lnTo>
                <a:lnTo>
                  <a:pt x="587" y="65"/>
                </a:lnTo>
                <a:lnTo>
                  <a:pt x="575" y="60"/>
                </a:lnTo>
                <a:lnTo>
                  <a:pt x="562" y="57"/>
                </a:lnTo>
                <a:lnTo>
                  <a:pt x="548" y="55"/>
                </a:lnTo>
                <a:lnTo>
                  <a:pt x="534" y="54"/>
                </a:lnTo>
                <a:lnTo>
                  <a:pt x="519" y="51"/>
                </a:lnTo>
                <a:lnTo>
                  <a:pt x="504" y="49"/>
                </a:lnTo>
                <a:lnTo>
                  <a:pt x="488" y="46"/>
                </a:lnTo>
                <a:lnTo>
                  <a:pt x="470" y="43"/>
                </a:lnTo>
                <a:lnTo>
                  <a:pt x="432" y="38"/>
                </a:lnTo>
                <a:lnTo>
                  <a:pt x="372" y="32"/>
                </a:lnTo>
                <a:lnTo>
                  <a:pt x="352" y="30"/>
                </a:lnTo>
                <a:lnTo>
                  <a:pt x="333" y="27"/>
                </a:lnTo>
                <a:lnTo>
                  <a:pt x="314" y="23"/>
                </a:lnTo>
                <a:lnTo>
                  <a:pt x="298" y="21"/>
                </a:lnTo>
                <a:lnTo>
                  <a:pt x="275" y="19"/>
                </a:lnTo>
                <a:lnTo>
                  <a:pt x="250" y="17"/>
                </a:lnTo>
                <a:lnTo>
                  <a:pt x="225" y="17"/>
                </a:lnTo>
                <a:lnTo>
                  <a:pt x="183" y="17"/>
                </a:lnTo>
                <a:lnTo>
                  <a:pt x="191" y="17"/>
                </a:lnTo>
                <a:lnTo>
                  <a:pt x="193" y="18"/>
                </a:lnTo>
                <a:lnTo>
                  <a:pt x="198" y="20"/>
                </a:lnTo>
                <a:lnTo>
                  <a:pt x="207" y="21"/>
                </a:lnTo>
                <a:lnTo>
                  <a:pt x="229" y="22"/>
                </a:lnTo>
                <a:lnTo>
                  <a:pt x="252" y="23"/>
                </a:lnTo>
                <a:lnTo>
                  <a:pt x="286" y="25"/>
                </a:lnTo>
                <a:lnTo>
                  <a:pt x="304" y="26"/>
                </a:lnTo>
                <a:lnTo>
                  <a:pt x="364" y="28"/>
                </a:lnTo>
                <a:lnTo>
                  <a:pt x="428" y="32"/>
                </a:lnTo>
                <a:lnTo>
                  <a:pt x="473" y="33"/>
                </a:lnTo>
                <a:lnTo>
                  <a:pt x="540" y="33"/>
                </a:lnTo>
                <a:lnTo>
                  <a:pt x="562" y="34"/>
                </a:lnTo>
                <a:lnTo>
                  <a:pt x="644" y="38"/>
                </a:lnTo>
                <a:lnTo>
                  <a:pt x="694" y="39"/>
                </a:lnTo>
                <a:lnTo>
                  <a:pt x="713" y="39"/>
                </a:lnTo>
                <a:lnTo>
                  <a:pt x="688" y="41"/>
                </a:lnTo>
                <a:lnTo>
                  <a:pt x="663" y="43"/>
                </a:lnTo>
                <a:lnTo>
                  <a:pt x="625" y="44"/>
                </a:lnTo>
                <a:lnTo>
                  <a:pt x="65" y="45"/>
                </a:lnTo>
                <a:lnTo>
                  <a:pt x="60" y="47"/>
                </a:lnTo>
                <a:lnTo>
                  <a:pt x="54" y="49"/>
                </a:lnTo>
                <a:lnTo>
                  <a:pt x="49" y="50"/>
                </a:lnTo>
                <a:lnTo>
                  <a:pt x="48" y="51"/>
                </a:lnTo>
                <a:lnTo>
                  <a:pt x="48" y="52"/>
                </a:lnTo>
                <a:lnTo>
                  <a:pt x="49" y="53"/>
                </a:lnTo>
                <a:lnTo>
                  <a:pt x="51" y="54"/>
                </a:lnTo>
                <a:lnTo>
                  <a:pt x="59" y="56"/>
                </a:lnTo>
                <a:lnTo>
                  <a:pt x="66" y="59"/>
                </a:lnTo>
                <a:lnTo>
                  <a:pt x="87" y="62"/>
                </a:lnTo>
                <a:lnTo>
                  <a:pt x="128" y="68"/>
                </a:lnTo>
                <a:lnTo>
                  <a:pt x="155" y="71"/>
                </a:lnTo>
                <a:lnTo>
                  <a:pt x="197" y="73"/>
                </a:lnTo>
                <a:lnTo>
                  <a:pt x="230" y="76"/>
                </a:lnTo>
                <a:lnTo>
                  <a:pt x="248" y="77"/>
                </a:lnTo>
                <a:lnTo>
                  <a:pt x="287" y="78"/>
                </a:lnTo>
                <a:lnTo>
                  <a:pt x="385" y="79"/>
                </a:lnTo>
                <a:lnTo>
                  <a:pt x="500" y="79"/>
                </a:lnTo>
                <a:lnTo>
                  <a:pt x="502" y="79"/>
                </a:lnTo>
                <a:lnTo>
                  <a:pt x="503" y="80"/>
                </a:lnTo>
                <a:lnTo>
                  <a:pt x="501" y="83"/>
                </a:lnTo>
                <a:lnTo>
                  <a:pt x="499" y="85"/>
                </a:lnTo>
                <a:lnTo>
                  <a:pt x="498" y="87"/>
                </a:lnTo>
                <a:lnTo>
                  <a:pt x="496" y="88"/>
                </a:lnTo>
                <a:lnTo>
                  <a:pt x="493" y="90"/>
                </a:lnTo>
                <a:lnTo>
                  <a:pt x="487" y="93"/>
                </a:lnTo>
                <a:lnTo>
                  <a:pt x="479" y="96"/>
                </a:lnTo>
                <a:lnTo>
                  <a:pt x="470" y="98"/>
                </a:lnTo>
                <a:lnTo>
                  <a:pt x="449" y="100"/>
                </a:lnTo>
                <a:lnTo>
                  <a:pt x="426" y="101"/>
                </a:lnTo>
                <a:lnTo>
                  <a:pt x="219" y="101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581280" y="133344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each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- charges of miscon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on 3 cou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ructing justice by trying to cover up White House involvement in Water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olating rights by using FBI, CIA, &amp; IRS to harass cri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ying Congress by refusing to turn over the 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first American President ever to resign from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 (V.P.) took office, and pardoned (excused) Nixon for crimes he committed in Whit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created laws: War Powers Act of 1973, Congressional Budget and Impoundment Act of 1974, &amp; the Privacy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in order to protect constitutional law, which was threatened by Nixon Whit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wo main ways that Nixon abused his powers while in off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team of people that broke into the Watergate complex c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pard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d Follows Nix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ichard Nixon resigned as president his VP Gerald R. Ford was left during the national cri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greatest obstacle in effort to restore public faith in the govt. was h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ability to control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es began slowing down and industrial productivity had slowed and the cost of goods wen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image"/>
          <p:cNvPicPr/>
          <p:nvPr/>
        </p:nvPicPr>
        <p:blipFill>
          <a:blip r:embed="rId1"/>
          <a:stretch/>
        </p:blipFill>
        <p:spPr>
          <a:xfrm>
            <a:off x="304920" y="304920"/>
            <a:ext cx="4952880" cy="3608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GERALDFORD-783038"/>
          <p:cNvPicPr/>
          <p:nvPr/>
        </p:nvPicPr>
        <p:blipFill>
          <a:blip r:embed="rId2"/>
          <a:stretch/>
        </p:blipFill>
        <p:spPr>
          <a:xfrm>
            <a:off x="4419720" y="1523880"/>
            <a:ext cx="3365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ergy Crisis Is Bor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 economic machine demanded huge amounts of 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udi Arabia imposed an embargo, a restriction of trade, on oil and shipped to Israel's allies, including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argo was lifted in 197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economic effects continued through the end of the dec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els and Stee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oil embargo had a big effect on the U.S auto and steel indust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rican cars were produced in Detroit but the oil embargo pric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d and no one wanted anything to do with the “gas guzzle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consum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witched to foreign car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ause of the switch American auto plants closed and 300,000 workers lost their job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t Respo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Ford decided the economy c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ved by attacking inf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ll 6 perc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19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result industrial production plummeted and unemployment r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out of 10 were out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 plunged to its worst recession, an economic slowdow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te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s elected the 3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esid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ed to get economy out of recession by cutting taxes and increasing govt. spen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employment came down but inflation ro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usinesses, industries, and homeowners forced energy shortag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ters approval ratings fell 26 % as a result to the dramatic life ch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3b52090r1"/>
          <p:cNvPicPr/>
          <p:nvPr/>
        </p:nvPicPr>
        <p:blipFill>
          <a:blip r:embed="rId1"/>
          <a:stretch/>
        </p:blipFill>
        <p:spPr>
          <a:xfrm>
            <a:off x="2362320" y="380880"/>
            <a:ext cx="4209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838080" y="0"/>
            <a:ext cx="800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eign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 crea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oreign poli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sed on the rights and freedoms he believed should be available to all the people around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choose leaders in fair and honesty e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s to a fair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worship and travel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free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 and soviet leaders sig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Strategic Arms Limitation Treaty (SALT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number of missiles, bombers, and nuclear warheads to each side could h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 administr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 military aid to South and Central American dictat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had an agreement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f the Panama ca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ate ratified and gave the U.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d the neutrality of the ca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mp David Accord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 between Israel and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’s President Anwar el-Sadet and Israeli Prime Minister Menachem Begin met at Camp David and made pe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rael's Prime Minister Begin, U.S president Carter, and Egypt’s President Sada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begin-sadat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ranian Hostage Cri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 armed mob stormed the U.S embassy at the capital of Iran and seized diplomats and military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980 carter authorized a raid to rescue ho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20, 198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ent Ronald Reagan’s Inauguration day the hostages were fr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amp David Acco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Nixon resigned who became presi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re the hostages of Iran free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ixon’s New Conservat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x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in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raised in a hard working middle class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d Americans even fur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wanted to g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conserv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Feder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series of programs that would “Reverse the flow of power and resources from the states and communities to Washington and start power and resources flowing back … the peopl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3"/>
          <p:cNvSpPr/>
          <p:nvPr/>
        </p:nvSpPr>
        <p:spPr>
          <a:xfrm>
            <a:off x="2819520" y="4114800"/>
            <a:ext cx="2550960" cy="169920"/>
          </a:xfrm>
          <a:custGeom>
            <a:avLst/>
            <a:gdLst>
              <a:gd name="textAreaLeft" fmla="*/ 0 w 2550960"/>
              <a:gd name="textAreaRight" fmla="*/ 2550960 w 25509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607" h="107">
                <a:moveTo>
                  <a:pt x="37" y="0"/>
                </a:moveTo>
                <a:lnTo>
                  <a:pt x="40" y="0"/>
                </a:lnTo>
                <a:lnTo>
                  <a:pt x="54" y="2"/>
                </a:lnTo>
                <a:lnTo>
                  <a:pt x="87" y="5"/>
                </a:lnTo>
                <a:lnTo>
                  <a:pt x="112" y="8"/>
                </a:lnTo>
                <a:lnTo>
                  <a:pt x="164" y="11"/>
                </a:lnTo>
                <a:lnTo>
                  <a:pt x="191" y="13"/>
                </a:lnTo>
                <a:lnTo>
                  <a:pt x="233" y="16"/>
                </a:lnTo>
                <a:lnTo>
                  <a:pt x="292" y="16"/>
                </a:lnTo>
                <a:lnTo>
                  <a:pt x="527" y="16"/>
                </a:lnTo>
                <a:lnTo>
                  <a:pt x="539" y="13"/>
                </a:lnTo>
                <a:lnTo>
                  <a:pt x="556" y="11"/>
                </a:lnTo>
                <a:lnTo>
                  <a:pt x="599" y="11"/>
                </a:lnTo>
                <a:lnTo>
                  <a:pt x="1501" y="11"/>
                </a:lnTo>
                <a:lnTo>
                  <a:pt x="1502" y="11"/>
                </a:lnTo>
                <a:lnTo>
                  <a:pt x="1503" y="12"/>
                </a:lnTo>
                <a:lnTo>
                  <a:pt x="1504" y="14"/>
                </a:lnTo>
                <a:lnTo>
                  <a:pt x="1503" y="15"/>
                </a:lnTo>
                <a:lnTo>
                  <a:pt x="1497" y="18"/>
                </a:lnTo>
                <a:lnTo>
                  <a:pt x="1478" y="27"/>
                </a:lnTo>
                <a:lnTo>
                  <a:pt x="1469" y="32"/>
                </a:lnTo>
                <a:lnTo>
                  <a:pt x="1459" y="39"/>
                </a:lnTo>
                <a:lnTo>
                  <a:pt x="1448" y="46"/>
                </a:lnTo>
                <a:lnTo>
                  <a:pt x="1436" y="53"/>
                </a:lnTo>
                <a:lnTo>
                  <a:pt x="1423" y="58"/>
                </a:lnTo>
                <a:lnTo>
                  <a:pt x="1409" y="63"/>
                </a:lnTo>
                <a:lnTo>
                  <a:pt x="1396" y="68"/>
                </a:lnTo>
                <a:lnTo>
                  <a:pt x="1385" y="73"/>
                </a:lnTo>
                <a:lnTo>
                  <a:pt x="1374" y="79"/>
                </a:lnTo>
                <a:lnTo>
                  <a:pt x="1362" y="84"/>
                </a:lnTo>
                <a:lnTo>
                  <a:pt x="1349" y="88"/>
                </a:lnTo>
                <a:lnTo>
                  <a:pt x="1335" y="92"/>
                </a:lnTo>
                <a:lnTo>
                  <a:pt x="1322" y="96"/>
                </a:lnTo>
                <a:lnTo>
                  <a:pt x="1309" y="99"/>
                </a:lnTo>
                <a:lnTo>
                  <a:pt x="1295" y="101"/>
                </a:lnTo>
                <a:lnTo>
                  <a:pt x="1265" y="104"/>
                </a:lnTo>
                <a:lnTo>
                  <a:pt x="1232" y="105"/>
                </a:lnTo>
                <a:lnTo>
                  <a:pt x="1147" y="106"/>
                </a:lnTo>
                <a:lnTo>
                  <a:pt x="945" y="106"/>
                </a:lnTo>
                <a:lnTo>
                  <a:pt x="902" y="105"/>
                </a:lnTo>
                <a:lnTo>
                  <a:pt x="858" y="103"/>
                </a:lnTo>
                <a:lnTo>
                  <a:pt x="816" y="102"/>
                </a:lnTo>
                <a:lnTo>
                  <a:pt x="797" y="100"/>
                </a:lnTo>
                <a:lnTo>
                  <a:pt x="781" y="98"/>
                </a:lnTo>
                <a:lnTo>
                  <a:pt x="765" y="95"/>
                </a:lnTo>
                <a:lnTo>
                  <a:pt x="740" y="92"/>
                </a:lnTo>
                <a:lnTo>
                  <a:pt x="701" y="90"/>
                </a:lnTo>
                <a:lnTo>
                  <a:pt x="661" y="88"/>
                </a:lnTo>
                <a:lnTo>
                  <a:pt x="613" y="82"/>
                </a:lnTo>
                <a:lnTo>
                  <a:pt x="601" y="79"/>
                </a:lnTo>
                <a:lnTo>
                  <a:pt x="589" y="76"/>
                </a:lnTo>
                <a:lnTo>
                  <a:pt x="578" y="73"/>
                </a:lnTo>
                <a:lnTo>
                  <a:pt x="565" y="71"/>
                </a:lnTo>
                <a:lnTo>
                  <a:pt x="551" y="68"/>
                </a:lnTo>
                <a:lnTo>
                  <a:pt x="537" y="66"/>
                </a:lnTo>
                <a:lnTo>
                  <a:pt x="523" y="63"/>
                </a:lnTo>
                <a:lnTo>
                  <a:pt x="494" y="57"/>
                </a:lnTo>
                <a:lnTo>
                  <a:pt x="479" y="54"/>
                </a:lnTo>
                <a:lnTo>
                  <a:pt x="464" y="51"/>
                </a:lnTo>
                <a:lnTo>
                  <a:pt x="434" y="47"/>
                </a:lnTo>
                <a:lnTo>
                  <a:pt x="378" y="39"/>
                </a:lnTo>
                <a:lnTo>
                  <a:pt x="353" y="36"/>
                </a:lnTo>
                <a:lnTo>
                  <a:pt x="305" y="34"/>
                </a:lnTo>
                <a:lnTo>
                  <a:pt x="258" y="33"/>
                </a:lnTo>
                <a:lnTo>
                  <a:pt x="119" y="33"/>
                </a:lnTo>
                <a:lnTo>
                  <a:pt x="117" y="34"/>
                </a:lnTo>
                <a:lnTo>
                  <a:pt x="114" y="36"/>
                </a:lnTo>
                <a:lnTo>
                  <a:pt x="108" y="38"/>
                </a:lnTo>
                <a:lnTo>
                  <a:pt x="102" y="39"/>
                </a:lnTo>
                <a:lnTo>
                  <a:pt x="95" y="42"/>
                </a:lnTo>
                <a:lnTo>
                  <a:pt x="87" y="45"/>
                </a:lnTo>
                <a:lnTo>
                  <a:pt x="80" y="48"/>
                </a:lnTo>
                <a:lnTo>
                  <a:pt x="73" y="50"/>
                </a:lnTo>
                <a:lnTo>
                  <a:pt x="69" y="53"/>
                </a:lnTo>
                <a:lnTo>
                  <a:pt x="65" y="54"/>
                </a:lnTo>
                <a:lnTo>
                  <a:pt x="59" y="55"/>
                </a:lnTo>
                <a:lnTo>
                  <a:pt x="57" y="55"/>
                </a:lnTo>
                <a:lnTo>
                  <a:pt x="56" y="56"/>
                </a:lnTo>
                <a:lnTo>
                  <a:pt x="52" y="59"/>
                </a:lnTo>
                <a:lnTo>
                  <a:pt x="48" y="60"/>
                </a:lnTo>
                <a:lnTo>
                  <a:pt x="46" y="61"/>
                </a:lnTo>
                <a:lnTo>
                  <a:pt x="42" y="63"/>
                </a:lnTo>
                <a:lnTo>
                  <a:pt x="41" y="64"/>
                </a:lnTo>
                <a:lnTo>
                  <a:pt x="37" y="66"/>
                </a:lnTo>
                <a:lnTo>
                  <a:pt x="35" y="66"/>
                </a:lnTo>
                <a:lnTo>
                  <a:pt x="31" y="68"/>
                </a:lnTo>
                <a:lnTo>
                  <a:pt x="29" y="70"/>
                </a:lnTo>
                <a:lnTo>
                  <a:pt x="27" y="72"/>
                </a:lnTo>
                <a:lnTo>
                  <a:pt x="21" y="78"/>
                </a:lnTo>
                <a:lnTo>
                  <a:pt x="18" y="80"/>
                </a:lnTo>
                <a:lnTo>
                  <a:pt x="13" y="82"/>
                </a:lnTo>
                <a:lnTo>
                  <a:pt x="12" y="83"/>
                </a:lnTo>
                <a:lnTo>
                  <a:pt x="11" y="85"/>
                </a:lnTo>
                <a:lnTo>
                  <a:pt x="10" y="86"/>
                </a:lnTo>
                <a:lnTo>
                  <a:pt x="9" y="87"/>
                </a:lnTo>
                <a:lnTo>
                  <a:pt x="8" y="88"/>
                </a:lnTo>
                <a:lnTo>
                  <a:pt x="6" y="89"/>
                </a:lnTo>
                <a:lnTo>
                  <a:pt x="5" y="89"/>
                </a:lnTo>
                <a:lnTo>
                  <a:pt x="4" y="91"/>
                </a:lnTo>
                <a:lnTo>
                  <a:pt x="4" y="92"/>
                </a:lnTo>
                <a:lnTo>
                  <a:pt x="3" y="93"/>
                </a:lnTo>
                <a:lnTo>
                  <a:pt x="2" y="94"/>
                </a:lnTo>
                <a:lnTo>
                  <a:pt x="0" y="94"/>
                </a:lnTo>
                <a:lnTo>
                  <a:pt x="1" y="95"/>
                </a:lnTo>
                <a:lnTo>
                  <a:pt x="7" y="96"/>
                </a:lnTo>
                <a:lnTo>
                  <a:pt x="13" y="98"/>
                </a:lnTo>
                <a:lnTo>
                  <a:pt x="27" y="101"/>
                </a:lnTo>
                <a:lnTo>
                  <a:pt x="46" y="104"/>
                </a:lnTo>
                <a:lnTo>
                  <a:pt x="94" y="106"/>
                </a:lnTo>
                <a:lnTo>
                  <a:pt x="781" y="106"/>
                </a:lnTo>
                <a:lnTo>
                  <a:pt x="786" y="105"/>
                </a:lnTo>
                <a:lnTo>
                  <a:pt x="793" y="103"/>
                </a:lnTo>
                <a:lnTo>
                  <a:pt x="818" y="101"/>
                </a:lnTo>
                <a:lnTo>
                  <a:pt x="837" y="101"/>
                </a:lnTo>
                <a:lnTo>
                  <a:pt x="841" y="100"/>
                </a:lnTo>
                <a:lnTo>
                  <a:pt x="850" y="97"/>
                </a:lnTo>
                <a:lnTo>
                  <a:pt x="865" y="95"/>
                </a:lnTo>
                <a:lnTo>
                  <a:pt x="893" y="95"/>
                </a:lnTo>
                <a:lnTo>
                  <a:pt x="899" y="93"/>
                </a:lnTo>
                <a:lnTo>
                  <a:pt x="905" y="91"/>
                </a:lnTo>
                <a:lnTo>
                  <a:pt x="913" y="87"/>
                </a:lnTo>
                <a:lnTo>
                  <a:pt x="918" y="85"/>
                </a:lnTo>
                <a:lnTo>
                  <a:pt x="927" y="84"/>
                </a:lnTo>
                <a:lnTo>
                  <a:pt x="930" y="84"/>
                </a:lnTo>
                <a:lnTo>
                  <a:pt x="937" y="82"/>
                </a:lnTo>
                <a:lnTo>
                  <a:pt x="941" y="81"/>
                </a:lnTo>
                <a:lnTo>
                  <a:pt x="955" y="79"/>
                </a:lnTo>
                <a:lnTo>
                  <a:pt x="1002" y="78"/>
                </a:lnTo>
                <a:lnTo>
                  <a:pt x="1540" y="78"/>
                </a:lnTo>
                <a:lnTo>
                  <a:pt x="1542" y="78"/>
                </a:lnTo>
                <a:lnTo>
                  <a:pt x="1548" y="74"/>
                </a:lnTo>
                <a:lnTo>
                  <a:pt x="1552" y="73"/>
                </a:lnTo>
                <a:lnTo>
                  <a:pt x="1557" y="73"/>
                </a:lnTo>
                <a:lnTo>
                  <a:pt x="1559" y="72"/>
                </a:lnTo>
                <a:lnTo>
                  <a:pt x="1563" y="70"/>
                </a:lnTo>
                <a:lnTo>
                  <a:pt x="1567" y="68"/>
                </a:lnTo>
                <a:lnTo>
                  <a:pt x="1572" y="67"/>
                </a:lnTo>
                <a:lnTo>
                  <a:pt x="1574" y="67"/>
                </a:lnTo>
                <a:lnTo>
                  <a:pt x="1576" y="67"/>
                </a:lnTo>
                <a:lnTo>
                  <a:pt x="1576" y="65"/>
                </a:lnTo>
                <a:lnTo>
                  <a:pt x="1577" y="64"/>
                </a:lnTo>
                <a:lnTo>
                  <a:pt x="1578" y="63"/>
                </a:lnTo>
                <a:lnTo>
                  <a:pt x="1579" y="63"/>
                </a:lnTo>
                <a:lnTo>
                  <a:pt x="1582" y="62"/>
                </a:lnTo>
                <a:lnTo>
                  <a:pt x="1586" y="62"/>
                </a:lnTo>
                <a:lnTo>
                  <a:pt x="1587" y="61"/>
                </a:lnTo>
                <a:lnTo>
                  <a:pt x="1588" y="60"/>
                </a:lnTo>
                <a:lnTo>
                  <a:pt x="1588" y="58"/>
                </a:lnTo>
                <a:lnTo>
                  <a:pt x="1589" y="58"/>
                </a:lnTo>
                <a:lnTo>
                  <a:pt x="1590" y="57"/>
                </a:lnTo>
                <a:lnTo>
                  <a:pt x="1592" y="57"/>
                </a:lnTo>
                <a:lnTo>
                  <a:pt x="1595" y="54"/>
                </a:lnTo>
                <a:lnTo>
                  <a:pt x="1597" y="53"/>
                </a:lnTo>
                <a:lnTo>
                  <a:pt x="1598" y="51"/>
                </a:lnTo>
                <a:lnTo>
                  <a:pt x="1599" y="50"/>
                </a:lnTo>
                <a:lnTo>
                  <a:pt x="1599" y="48"/>
                </a:lnTo>
                <a:lnTo>
                  <a:pt x="1600" y="47"/>
                </a:lnTo>
                <a:lnTo>
                  <a:pt x="1602" y="46"/>
                </a:lnTo>
                <a:lnTo>
                  <a:pt x="1603" y="46"/>
                </a:lnTo>
                <a:lnTo>
                  <a:pt x="1604" y="45"/>
                </a:lnTo>
                <a:lnTo>
                  <a:pt x="1605" y="43"/>
                </a:lnTo>
                <a:lnTo>
                  <a:pt x="1606" y="40"/>
                </a:lnTo>
                <a:lnTo>
                  <a:pt x="1606" y="39"/>
                </a:lnTo>
                <a:lnTo>
                  <a:pt x="1606" y="37"/>
                </a:lnTo>
                <a:lnTo>
                  <a:pt x="1606" y="35"/>
                </a:lnTo>
                <a:lnTo>
                  <a:pt x="1606" y="31"/>
                </a:lnTo>
                <a:lnTo>
                  <a:pt x="1605" y="29"/>
                </a:lnTo>
                <a:lnTo>
                  <a:pt x="1604" y="28"/>
                </a:lnTo>
                <a:lnTo>
                  <a:pt x="1603" y="26"/>
                </a:lnTo>
                <a:lnTo>
                  <a:pt x="1602" y="24"/>
                </a:lnTo>
                <a:lnTo>
                  <a:pt x="1600" y="24"/>
                </a:lnTo>
                <a:lnTo>
                  <a:pt x="1597" y="23"/>
                </a:lnTo>
                <a:lnTo>
                  <a:pt x="1576" y="22"/>
                </a:lnTo>
                <a:lnTo>
                  <a:pt x="1575" y="21"/>
                </a:lnTo>
                <a:lnTo>
                  <a:pt x="1574" y="20"/>
                </a:lnTo>
                <a:lnTo>
                  <a:pt x="1573" y="19"/>
                </a:lnTo>
                <a:lnTo>
                  <a:pt x="1572" y="18"/>
                </a:lnTo>
                <a:lnTo>
                  <a:pt x="1571" y="18"/>
                </a:lnTo>
                <a:lnTo>
                  <a:pt x="1568" y="17"/>
                </a:lnTo>
                <a:lnTo>
                  <a:pt x="1561" y="16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(cont.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venue sharing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ram which the federal government returns some of its tax money to local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ssistance plan (FA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to stream line the massive federal agencies regulations &amp; casework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lso a  simple pl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give poor families a minimum annual income and then let them take responsibility for themsel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0"/>
          <p:cNvSpPr/>
          <p:nvPr/>
        </p:nvSpPr>
        <p:spPr>
          <a:xfrm>
            <a:off x="1295280" y="2133720"/>
            <a:ext cx="2770200" cy="179280"/>
          </a:xfrm>
          <a:custGeom>
            <a:avLst/>
            <a:gdLst>
              <a:gd name="textAreaLeft" fmla="*/ 0 w 2770200"/>
              <a:gd name="textAreaRight" fmla="*/ 2770200 w 27702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45" h="113">
                <a:moveTo>
                  <a:pt x="23" y="11"/>
                </a:moveTo>
                <a:lnTo>
                  <a:pt x="99" y="11"/>
                </a:lnTo>
                <a:lnTo>
                  <a:pt x="107" y="9"/>
                </a:lnTo>
                <a:lnTo>
                  <a:pt x="114" y="7"/>
                </a:lnTo>
                <a:lnTo>
                  <a:pt x="125" y="5"/>
                </a:lnTo>
                <a:lnTo>
                  <a:pt x="130" y="3"/>
                </a:lnTo>
                <a:lnTo>
                  <a:pt x="136" y="1"/>
                </a:lnTo>
                <a:lnTo>
                  <a:pt x="188" y="0"/>
                </a:lnTo>
                <a:lnTo>
                  <a:pt x="1667" y="0"/>
                </a:lnTo>
                <a:lnTo>
                  <a:pt x="1669" y="1"/>
                </a:lnTo>
                <a:lnTo>
                  <a:pt x="1675" y="4"/>
                </a:lnTo>
                <a:lnTo>
                  <a:pt x="1684" y="7"/>
                </a:lnTo>
                <a:lnTo>
                  <a:pt x="1690" y="10"/>
                </a:lnTo>
                <a:lnTo>
                  <a:pt x="1697" y="13"/>
                </a:lnTo>
                <a:lnTo>
                  <a:pt x="1700" y="15"/>
                </a:lnTo>
                <a:lnTo>
                  <a:pt x="1703" y="17"/>
                </a:lnTo>
                <a:lnTo>
                  <a:pt x="1705" y="19"/>
                </a:lnTo>
                <a:lnTo>
                  <a:pt x="1710" y="21"/>
                </a:lnTo>
                <a:lnTo>
                  <a:pt x="1716" y="22"/>
                </a:lnTo>
                <a:lnTo>
                  <a:pt x="1718" y="22"/>
                </a:lnTo>
                <a:lnTo>
                  <a:pt x="1719" y="23"/>
                </a:lnTo>
                <a:lnTo>
                  <a:pt x="1723" y="25"/>
                </a:lnTo>
                <a:lnTo>
                  <a:pt x="1727" y="28"/>
                </a:lnTo>
                <a:lnTo>
                  <a:pt x="1729" y="30"/>
                </a:lnTo>
                <a:lnTo>
                  <a:pt x="1731" y="31"/>
                </a:lnTo>
                <a:lnTo>
                  <a:pt x="1734" y="33"/>
                </a:lnTo>
                <a:lnTo>
                  <a:pt x="1736" y="34"/>
                </a:lnTo>
                <a:lnTo>
                  <a:pt x="1737" y="35"/>
                </a:lnTo>
                <a:lnTo>
                  <a:pt x="1737" y="36"/>
                </a:lnTo>
                <a:lnTo>
                  <a:pt x="1738" y="37"/>
                </a:lnTo>
                <a:lnTo>
                  <a:pt x="1739" y="38"/>
                </a:lnTo>
                <a:lnTo>
                  <a:pt x="1741" y="38"/>
                </a:lnTo>
                <a:lnTo>
                  <a:pt x="1742" y="39"/>
                </a:lnTo>
                <a:lnTo>
                  <a:pt x="1743" y="41"/>
                </a:lnTo>
                <a:lnTo>
                  <a:pt x="1743" y="44"/>
                </a:lnTo>
                <a:lnTo>
                  <a:pt x="1744" y="47"/>
                </a:lnTo>
                <a:lnTo>
                  <a:pt x="1743" y="49"/>
                </a:lnTo>
                <a:lnTo>
                  <a:pt x="1742" y="51"/>
                </a:lnTo>
                <a:lnTo>
                  <a:pt x="1741" y="52"/>
                </a:lnTo>
                <a:lnTo>
                  <a:pt x="1739" y="54"/>
                </a:lnTo>
                <a:lnTo>
                  <a:pt x="1738" y="54"/>
                </a:lnTo>
                <a:lnTo>
                  <a:pt x="1736" y="55"/>
                </a:lnTo>
                <a:lnTo>
                  <a:pt x="1735" y="56"/>
                </a:lnTo>
                <a:lnTo>
                  <a:pt x="1734" y="57"/>
                </a:lnTo>
                <a:lnTo>
                  <a:pt x="1734" y="59"/>
                </a:lnTo>
                <a:lnTo>
                  <a:pt x="1732" y="60"/>
                </a:lnTo>
                <a:lnTo>
                  <a:pt x="1727" y="61"/>
                </a:lnTo>
                <a:lnTo>
                  <a:pt x="1720" y="61"/>
                </a:lnTo>
                <a:lnTo>
                  <a:pt x="1719" y="62"/>
                </a:lnTo>
                <a:lnTo>
                  <a:pt x="1718" y="63"/>
                </a:lnTo>
                <a:lnTo>
                  <a:pt x="1717" y="65"/>
                </a:lnTo>
                <a:lnTo>
                  <a:pt x="1716" y="66"/>
                </a:lnTo>
                <a:lnTo>
                  <a:pt x="1715" y="66"/>
                </a:lnTo>
                <a:lnTo>
                  <a:pt x="1712" y="67"/>
                </a:lnTo>
                <a:lnTo>
                  <a:pt x="1708" y="67"/>
                </a:lnTo>
                <a:lnTo>
                  <a:pt x="1707" y="68"/>
                </a:lnTo>
                <a:lnTo>
                  <a:pt x="1706" y="69"/>
                </a:lnTo>
                <a:lnTo>
                  <a:pt x="1706" y="70"/>
                </a:lnTo>
                <a:lnTo>
                  <a:pt x="1705" y="71"/>
                </a:lnTo>
                <a:lnTo>
                  <a:pt x="1703" y="72"/>
                </a:lnTo>
                <a:lnTo>
                  <a:pt x="1700" y="72"/>
                </a:lnTo>
                <a:lnTo>
                  <a:pt x="1697" y="73"/>
                </a:lnTo>
                <a:lnTo>
                  <a:pt x="1696" y="73"/>
                </a:lnTo>
                <a:lnTo>
                  <a:pt x="1695" y="75"/>
                </a:lnTo>
                <a:lnTo>
                  <a:pt x="1694" y="76"/>
                </a:lnTo>
                <a:lnTo>
                  <a:pt x="1693" y="77"/>
                </a:lnTo>
                <a:lnTo>
                  <a:pt x="1692" y="77"/>
                </a:lnTo>
                <a:lnTo>
                  <a:pt x="1689" y="78"/>
                </a:lnTo>
                <a:lnTo>
                  <a:pt x="1686" y="78"/>
                </a:lnTo>
                <a:lnTo>
                  <a:pt x="1684" y="79"/>
                </a:lnTo>
                <a:lnTo>
                  <a:pt x="1684" y="80"/>
                </a:lnTo>
                <a:lnTo>
                  <a:pt x="1683" y="82"/>
                </a:lnTo>
                <a:lnTo>
                  <a:pt x="1682" y="82"/>
                </a:lnTo>
                <a:lnTo>
                  <a:pt x="1681" y="83"/>
                </a:lnTo>
                <a:lnTo>
                  <a:pt x="1678" y="84"/>
                </a:lnTo>
                <a:lnTo>
                  <a:pt x="1674" y="84"/>
                </a:lnTo>
                <a:lnTo>
                  <a:pt x="1673" y="85"/>
                </a:lnTo>
                <a:lnTo>
                  <a:pt x="1672" y="86"/>
                </a:lnTo>
                <a:lnTo>
                  <a:pt x="1672" y="87"/>
                </a:lnTo>
                <a:lnTo>
                  <a:pt x="1671" y="88"/>
                </a:lnTo>
                <a:lnTo>
                  <a:pt x="1670" y="89"/>
                </a:lnTo>
                <a:lnTo>
                  <a:pt x="1668" y="89"/>
                </a:lnTo>
                <a:lnTo>
                  <a:pt x="1665" y="91"/>
                </a:lnTo>
                <a:lnTo>
                  <a:pt x="1663" y="93"/>
                </a:lnTo>
                <a:lnTo>
                  <a:pt x="1661" y="94"/>
                </a:lnTo>
                <a:lnTo>
                  <a:pt x="1658" y="95"/>
                </a:lnTo>
                <a:lnTo>
                  <a:pt x="1656" y="96"/>
                </a:lnTo>
                <a:lnTo>
                  <a:pt x="1656" y="97"/>
                </a:lnTo>
                <a:lnTo>
                  <a:pt x="1655" y="98"/>
                </a:lnTo>
                <a:lnTo>
                  <a:pt x="1654" y="99"/>
                </a:lnTo>
                <a:lnTo>
                  <a:pt x="1653" y="100"/>
                </a:lnTo>
                <a:lnTo>
                  <a:pt x="1650" y="101"/>
                </a:lnTo>
                <a:lnTo>
                  <a:pt x="1646" y="101"/>
                </a:lnTo>
                <a:lnTo>
                  <a:pt x="1645" y="102"/>
                </a:lnTo>
                <a:lnTo>
                  <a:pt x="1644" y="103"/>
                </a:lnTo>
                <a:lnTo>
                  <a:pt x="1644" y="104"/>
                </a:lnTo>
                <a:lnTo>
                  <a:pt x="1643" y="105"/>
                </a:lnTo>
                <a:lnTo>
                  <a:pt x="1641" y="106"/>
                </a:lnTo>
                <a:lnTo>
                  <a:pt x="1638" y="106"/>
                </a:lnTo>
                <a:lnTo>
                  <a:pt x="1624" y="107"/>
                </a:lnTo>
                <a:lnTo>
                  <a:pt x="1623" y="107"/>
                </a:lnTo>
                <a:lnTo>
                  <a:pt x="1622" y="108"/>
                </a:lnTo>
                <a:lnTo>
                  <a:pt x="1621" y="110"/>
                </a:lnTo>
                <a:lnTo>
                  <a:pt x="1620" y="111"/>
                </a:lnTo>
                <a:lnTo>
                  <a:pt x="1619" y="111"/>
                </a:lnTo>
                <a:lnTo>
                  <a:pt x="1616" y="112"/>
                </a:lnTo>
                <a:lnTo>
                  <a:pt x="1562" y="112"/>
                </a:lnTo>
                <a:lnTo>
                  <a:pt x="1520" y="112"/>
                </a:lnTo>
                <a:lnTo>
                  <a:pt x="1513" y="111"/>
                </a:lnTo>
                <a:lnTo>
                  <a:pt x="1506" y="108"/>
                </a:lnTo>
                <a:lnTo>
                  <a:pt x="1498" y="105"/>
                </a:lnTo>
                <a:lnTo>
                  <a:pt x="1487" y="99"/>
                </a:lnTo>
                <a:lnTo>
                  <a:pt x="1481" y="97"/>
                </a:lnTo>
                <a:lnTo>
                  <a:pt x="1470" y="95"/>
                </a:lnTo>
                <a:lnTo>
                  <a:pt x="1465" y="92"/>
                </a:lnTo>
                <a:lnTo>
                  <a:pt x="1461" y="91"/>
                </a:lnTo>
                <a:lnTo>
                  <a:pt x="1406" y="90"/>
                </a:lnTo>
                <a:lnTo>
                  <a:pt x="1337" y="90"/>
                </a:lnTo>
                <a:lnTo>
                  <a:pt x="1325" y="87"/>
                </a:lnTo>
                <a:lnTo>
                  <a:pt x="1314" y="85"/>
                </a:lnTo>
                <a:lnTo>
                  <a:pt x="1261" y="84"/>
                </a:lnTo>
                <a:lnTo>
                  <a:pt x="1039" y="84"/>
                </a:lnTo>
                <a:lnTo>
                  <a:pt x="1030" y="83"/>
                </a:lnTo>
                <a:lnTo>
                  <a:pt x="1020" y="80"/>
                </a:lnTo>
                <a:lnTo>
                  <a:pt x="998" y="79"/>
                </a:lnTo>
                <a:lnTo>
                  <a:pt x="502" y="79"/>
                </a:lnTo>
                <a:lnTo>
                  <a:pt x="499" y="78"/>
                </a:lnTo>
                <a:lnTo>
                  <a:pt x="492" y="75"/>
                </a:lnTo>
                <a:lnTo>
                  <a:pt x="486" y="74"/>
                </a:lnTo>
                <a:lnTo>
                  <a:pt x="434" y="73"/>
                </a:lnTo>
                <a:lnTo>
                  <a:pt x="0" y="73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5105520" y="3200400"/>
            <a:ext cx="796680" cy="117360"/>
            <a:chOff x="5105520" y="3200400"/>
            <a:chExt cx="796680" cy="117360"/>
          </a:xfrm>
        </p:grpSpPr>
        <p:sp>
          <p:nvSpPr>
            <p:cNvPr id="124" name="SMARTPenAnnotation1"/>
            <p:cNvSpPr/>
            <p:nvPr/>
          </p:nvSpPr>
          <p:spPr>
            <a:xfrm>
              <a:off x="5105520" y="3200400"/>
              <a:ext cx="796680" cy="936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02" h="6">
                  <a:moveTo>
                    <a:pt x="0" y="0"/>
                  </a:moveTo>
                  <a:lnTo>
                    <a:pt x="247" y="0"/>
                  </a:lnTo>
                  <a:lnTo>
                    <a:pt x="253" y="0"/>
                  </a:lnTo>
                  <a:lnTo>
                    <a:pt x="260" y="1"/>
                  </a:lnTo>
                  <a:lnTo>
                    <a:pt x="267" y="2"/>
                  </a:lnTo>
                  <a:lnTo>
                    <a:pt x="273" y="3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7" y="5"/>
                  </a:lnTo>
                  <a:lnTo>
                    <a:pt x="296" y="5"/>
                  </a:lnTo>
                  <a:lnTo>
                    <a:pt x="313" y="5"/>
                  </a:lnTo>
                  <a:lnTo>
                    <a:pt x="501" y="5"/>
                  </a:lnTo>
                </a:path>
              </a:pathLst>
            </a:custGeom>
            <a:noFill/>
            <a:ln w="213480">
              <a:solidFill>
                <a:srgbClr val="ffff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MARTPenAnnotation2"/>
            <p:cNvSpPr/>
            <p:nvPr/>
          </p:nvSpPr>
          <p:spPr>
            <a:xfrm>
              <a:off x="5114880" y="3306600"/>
              <a:ext cx="705960" cy="11160"/>
            </a:xfrm>
            <a:custGeom>
              <a:avLst/>
              <a:gdLst>
                <a:gd name="textAreaLeft" fmla="*/ 0 w 705960"/>
                <a:gd name="textAreaRight" fmla="*/ 706320 w 705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45" h="7">
                  <a:moveTo>
                    <a:pt x="0" y="6"/>
                  </a:moveTo>
                  <a:lnTo>
                    <a:pt x="239" y="6"/>
                  </a:lnTo>
                  <a:lnTo>
                    <a:pt x="243" y="5"/>
                  </a:lnTo>
                  <a:lnTo>
                    <a:pt x="247" y="4"/>
                  </a:lnTo>
                  <a:lnTo>
                    <a:pt x="251" y="3"/>
                  </a:lnTo>
                  <a:lnTo>
                    <a:pt x="254" y="2"/>
                  </a:lnTo>
                  <a:lnTo>
                    <a:pt x="256" y="1"/>
                  </a:lnTo>
                  <a:lnTo>
                    <a:pt x="259" y="1"/>
                  </a:lnTo>
                  <a:lnTo>
                    <a:pt x="262" y="1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90" y="0"/>
                  </a:lnTo>
                  <a:lnTo>
                    <a:pt x="444" y="0"/>
                  </a:lnTo>
                </a:path>
              </a:pathLst>
            </a:custGeom>
            <a:noFill/>
            <a:ln w="213480">
              <a:solidFill>
                <a:srgbClr val="ffff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7257960" y="0"/>
            <a:ext cx="1886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ealing to Sou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9 FBI targeted the Black Panther party, police killed an estimated 28 Pan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dreds more were arre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had adopted a ‘southern strategy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ern Strategy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lan designed to appeal directly to southern white conserv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rved as president untill 19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0"/>
          <p:cNvSpPr/>
          <p:nvPr/>
        </p:nvSpPr>
        <p:spPr>
          <a:xfrm>
            <a:off x="1600200" y="4572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0"/>
            <a:ext cx="80074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6:56:45Z</dcterms:created>
  <dc:creator>Anthony</dc:creator>
  <dc:description/>
  <dc:language>en-US</dc:language>
  <cp:lastModifiedBy>ASD</cp:lastModifiedBy>
  <dcterms:modified xsi:type="dcterms:W3CDTF">2010-07-08T20:28:56Z</dcterms:modified>
  <cp:revision>24</cp:revision>
  <dc:subject/>
  <dc:title>President Nixon</dc:title>
</cp:coreProperties>
</file>